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288-0228-4386-BBF6-E4609E2D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AAC-CAB7-4FDB-BDB5-5FB556EB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6E9-3FE1-4249-AB0D-A8FA2CC5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C9D-971F-4B35-B640-A0D00DF4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6439-CDFC-4A3B-99FF-8950ED9C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7396-5134-44EA-91DB-B93E93E9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45ED-F641-4B8D-AE6A-DC850C66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81AC-A524-4AF1-AD3B-704CB8BF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3BD2-8F2D-4940-BB93-04086547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3B7F-D0AE-4A89-BB74-FCBCDAE6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61B6-3EF0-4E2D-85B8-A31069D7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48D-4ACB-4D88-A8CD-95BA7FC5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779A-DC81-4F92-BB59-A284644B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8910-E96F-4992-B19B-0C53F2F0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0573-F328-4E1C-BC70-A05F8410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5929-4E71-4980-ADA3-276431DF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DB32-FEC2-4806-9B44-F31CFD46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494-B71A-419C-91E8-5FF782EA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67C9-850A-418A-8849-5880F782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44D3-AD29-49B3-B271-8AE5B4AB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341-2884-45B0-A064-7FAAD403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F79-7342-4BD3-9153-AB05CAC6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359-8425-4C36-BE58-57A46A27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D31-A612-4A32-B527-C1475750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7B3B-57C5-41F5-A8A5-19CC1FFB1A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33F5-D30D-4F7C-9DAD-7E5225DB92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0066"/>
                </a:solidFill>
                <a:latin typeface="Arial"/>
              </a:rPr>
              <a:t>危化品安全监管信息系统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经营许可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完善经营单位基本信息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点击左边栏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单位基本信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选择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经营单位基本信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进入经营单位基本信息界面：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127240" y="1413000"/>
            <a:ext cx="41878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222840"/>
            <a:ext cx="505152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84360" y="5734080"/>
            <a:ext cx="7559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备注：请将“企业类型、营业执照号（工商）、主要负责人、从业人数、安管人员数量、经营场所、储存场所、经营类型”按照企业实际情况填写完整，点击最下方“保存”按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37432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系统提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信息保存成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点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确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；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4" descr="JIA@W[$CKJ]DW`]P90E]0$C"/>
          <p:cNvPicPr/>
          <p:nvPr/>
        </p:nvPicPr>
        <p:blipFill>
          <a:blip r:embed="rId1"/>
          <a:stretch/>
        </p:blipFill>
        <p:spPr>
          <a:xfrm>
            <a:off x="2124000" y="1989000"/>
            <a:ext cx="439272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三、经营许可证申请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659280" y="1773360"/>
            <a:ext cx="2484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ff"/>
                </a:solidFill>
                <a:latin typeface="Arial"/>
              </a:rPr>
              <a:t>点击左边栏“业务事项申报”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-“</a:t>
            </a:r>
            <a:r>
              <a:rPr b="0" lang="zh-CN" sz="2700" spc="-1" strike="noStrike">
                <a:solidFill>
                  <a:srgbClr val="0000ff"/>
                </a:solidFill>
                <a:latin typeface="Arial"/>
              </a:rPr>
              <a:t>经营许可”</a:t>
            </a: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-“</a:t>
            </a:r>
            <a:r>
              <a:rPr b="0" lang="zh-CN" sz="2700" spc="-1" strike="noStrike">
                <a:solidFill>
                  <a:srgbClr val="0000ff"/>
                </a:solidFill>
                <a:latin typeface="Arial"/>
              </a:rPr>
              <a:t>新领、延期”，进入经营许可申报界面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601164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255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备注：经营单位的基本信息已经有了，需要填写“经办人”和“经办人手机”。核对信息，准确无误后点击“保存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查看“涉及的危险化学品”及“仓库区”的填写资料，准确无误后点击“保存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864540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添加经营的危险化学品品种：点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新增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出现如下弹窗：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8[MFRI89]M0{10)PSZK0BET"/>
          <p:cNvPicPr/>
          <p:nvPr/>
        </p:nvPicPr>
        <p:blipFill>
          <a:blip r:embed="rId1"/>
          <a:stretch/>
        </p:blipFill>
        <p:spPr>
          <a:xfrm>
            <a:off x="695160" y="1828800"/>
            <a:ext cx="7753680" cy="33289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2979720" y="525528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点击“危化品选择”，进入如下界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"/>
          <p:cNvPicPr/>
          <p:nvPr/>
        </p:nvPicPr>
        <p:blipFill>
          <a:blip r:embed="rId1"/>
          <a:stretch/>
        </p:blipFill>
        <p:spPr>
          <a:xfrm>
            <a:off x="0" y="1413000"/>
            <a:ext cx="83883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2"/>
          <p:cNvPicPr/>
          <p:nvPr/>
        </p:nvPicPr>
        <p:blipFill>
          <a:blip r:embed="rId1"/>
          <a:stretch/>
        </p:blipFill>
        <p:spPr>
          <a:xfrm>
            <a:off x="324000" y="1341360"/>
            <a:ext cx="78850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如果有储存填写最大储存量，没有储存输入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0”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4" descr="未命名20"/>
          <p:cNvPicPr/>
          <p:nvPr/>
        </p:nvPicPr>
        <p:blipFill>
          <a:blip r:embed="rId1"/>
          <a:stretch/>
        </p:blipFill>
        <p:spPr>
          <a:xfrm>
            <a:off x="684360" y="1109520"/>
            <a:ext cx="693252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317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过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新增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将所有品名录入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111"/>
          <p:cNvPicPr/>
          <p:nvPr/>
        </p:nvPicPr>
        <p:blipFill>
          <a:blip r:embed="rId1"/>
          <a:stretch/>
        </p:blipFill>
        <p:spPr>
          <a:xfrm>
            <a:off x="606600" y="1647720"/>
            <a:ext cx="793260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、登陆方式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江苏省应急管理厅网站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省危化品安全监管（行政许可）信息系统，如图：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476360" y="1486080"/>
            <a:ext cx="61912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添加附件材料：点击“附件资料”，出现以下对话框。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PFU5}%VBK3R3@~KX]AISW$N"/>
          <p:cNvPicPr/>
          <p:nvPr/>
        </p:nvPicPr>
        <p:blipFill>
          <a:blip r:embed="rId1"/>
          <a:stretch/>
        </p:blipFill>
        <p:spPr>
          <a:xfrm>
            <a:off x="1332000" y="1378080"/>
            <a:ext cx="66247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备注资料上传注意事项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79930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资料上传注意事项：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企业资料上传时，每单个申请材料只能有一个电子文档，如涉及两个或多个文件资料的，必需制作成一个电子文档后再上传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所有需要有关人员签字或加盖公章的申报材料，必须经签字或盖章后扫描成电子文档上传；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所有扫描件均应用原件扫描，并与书面申请材料一致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制作电子文档时需注意控制文件大小，格式为图片、扫描件等时，大小限制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内；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文档时，大小限制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内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资料上传成功后，可点击相应的材料名称进行审核，如有误可删除后重新上传或直接上传替换原文件。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69944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点击“上传”，出现如下弹窗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4" descr="461I_{G%EDCGX5W@~(@H`PC"/>
          <p:cNvPicPr/>
          <p:nvPr/>
        </p:nvPicPr>
        <p:blipFill>
          <a:blip r:embed="rId1"/>
          <a:stretch/>
        </p:blipFill>
        <p:spPr>
          <a:xfrm>
            <a:off x="971640" y="981000"/>
            <a:ext cx="4824360" cy="20192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5"/>
          <p:cNvSpPr/>
          <p:nvPr/>
        </p:nvSpPr>
        <p:spPr>
          <a:xfrm>
            <a:off x="250920" y="33148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点击“浏览”，选择要上传的资料文件后，点击“上传”，出现如下弹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2413080" y="40248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C:\Documents and Settings\Administrator\桌面\AppData\Roaming\Tencent\Users\49161527\QQ\WinTemp\RichOle\){V)2SN)N6200H0`_6C}D[6.jpg"/>
          <p:cNvPicPr/>
          <p:nvPr/>
        </p:nvPicPr>
        <p:blipFill>
          <a:blip r:embed="rId2"/>
          <a:stretch/>
        </p:blipFill>
        <p:spPr>
          <a:xfrm>
            <a:off x="2195640" y="3986280"/>
            <a:ext cx="25779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、许可申报：完成所有资料填写以后，点击“许可申报”，出现如下弹窗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未命名28"/>
          <p:cNvPicPr/>
          <p:nvPr/>
        </p:nvPicPr>
        <p:blipFill>
          <a:blip r:embed="rId1"/>
          <a:stretch/>
        </p:blipFill>
        <p:spPr>
          <a:xfrm>
            <a:off x="1116000" y="1413000"/>
            <a:ext cx="61628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若果申报成功，会出现如下弹窗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Picture 4" descr="]W)Y)[LLCBK0D(Z(P9KZ(SR"/>
          <p:cNvPicPr/>
          <p:nvPr/>
        </p:nvPicPr>
        <p:blipFill>
          <a:blip r:embed="rId1"/>
          <a:stretch/>
        </p:blipFill>
        <p:spPr>
          <a:xfrm>
            <a:off x="2987640" y="2060640"/>
            <a:ext cx="2808360" cy="26668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4335480" y="4941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企业经营许可证申报结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056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424240" y="1928880"/>
            <a:ext cx="51386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9160" y="961920"/>
            <a:ext cx="8905680" cy="4934160"/>
          </a:xfrm>
          <a:prstGeom prst="rect">
            <a:avLst/>
          </a:prstGeom>
          <a:ln w="0">
            <a:noFill/>
          </a:ln>
        </p:spPr>
      </p:pic>
      <p:sp>
        <p:nvSpPr>
          <p:cNvPr id="154" name="直接连接符 11"/>
          <p:cNvSpPr/>
          <p:nvPr/>
        </p:nvSpPr>
        <p:spPr>
          <a:xfrm>
            <a:off x="6012000" y="4076640"/>
            <a:ext cx="26636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点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企业入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进入如下界面：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757080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、注册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点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进入注册页面：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按照要求填写注册信息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435640" y="1700280"/>
            <a:ext cx="352908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用户密码统一为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3456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填写完成后，点击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注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后，弹出确认窗口，点击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确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51148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系统提示注册成功，点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确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后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6" descr="未命名2"/>
          <p:cNvPicPr/>
          <p:nvPr/>
        </p:nvPicPr>
        <p:blipFill>
          <a:blip r:embed="rId1"/>
          <a:stretch/>
        </p:blipFill>
        <p:spPr>
          <a:xfrm>
            <a:off x="2243160" y="2795760"/>
            <a:ext cx="4657680" cy="12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回到登陆界面：输入注册的账号和密码</a:t>
            </a:r>
            <a:r>
              <a:rPr b="1" lang="zh-CN" sz="43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Picture 6" descr="未命名3"/>
          <p:cNvPicPr/>
          <p:nvPr/>
        </p:nvPicPr>
        <p:blipFill>
          <a:blip r:embed="rId1"/>
          <a:stretch/>
        </p:blipFill>
        <p:spPr>
          <a:xfrm>
            <a:off x="1619280" y="1413000"/>
            <a:ext cx="3716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点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登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进入系统主页面：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684360" y="1170000"/>
            <a:ext cx="77752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07:22:53Z</dcterms:created>
  <dc:creator>user</dc:creator>
  <dc:description/>
  <dc:language>en-US</dc:language>
  <cp:lastModifiedBy>微软用户</cp:lastModifiedBy>
  <dcterms:modified xsi:type="dcterms:W3CDTF">2018-11-28T00:31:18Z</dcterms:modified>
  <cp:revision>20</cp:revision>
  <dc:subject/>
  <dc:title>危化品安全监管信息系统</dc:title>
</cp:coreProperties>
</file>